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8.png" ContentType="image/png"/>
  <Override PartName="/ppt/media/image5.gif" ContentType="image/gi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2CBF-5FED-40B9-AB0C-EA54946479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F3D7-3E45-4000-86FA-73753802DE9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201F-3E8E-4EEF-A1CD-0249164CD96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AC2F-BF86-4CDE-84F7-398D2927BCF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4328-5EB0-4DFD-A719-7F36D4E5E69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3818-2264-419B-838B-1C9931E33DD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C52E-2B8A-4808-97F5-9F08E17C395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C47E-C6A2-49AD-95BA-7667546956D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6135-34F5-4888-8D54-EE15CD2EBB4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CDC-D2FC-4368-845D-C6CBFE7C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683-E635-4F7F-AD0B-F90E1B38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891-3A39-42FF-89E9-4B7BC3A5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48A-096E-4925-8715-CEA8F216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2040-2FFF-4716-9B87-EFB89A92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9335-548E-47BE-AEC9-B18C60C0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BEAA-FA27-4D91-ABE0-66CE9097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BAF9-7056-45CE-8B04-017A9D5B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A448-E29E-4774-ABD0-CBF8193F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7765-434A-4DF4-9A76-31DCD638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D858-BD9F-4C74-984F-E2A1C3A9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5D3-CADF-4088-A04E-45A427D9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9548-EA47-4BFD-BF0C-494C80F2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0D7B-0F9E-4525-BAA1-2864A365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1304-D1B2-4BFE-A025-6CA5976F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C33C-2EBD-4329-93EA-9E7C1273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F511-8BB6-40A6-8B57-3863B5BF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470-41E2-4EAC-A5FB-0AC6600F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077-35B0-4AC6-9B4E-03C2DF2B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24F-8919-463C-88CC-95E6E23B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D37-CFD0-4ABA-A323-69DE2D64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48E-9078-4978-A406-D4E548DE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CAF-C77F-4AF6-B716-442C8DE4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216-8105-44C5-924E-D70D2278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5CB1-76AF-4543-AEBA-F990A1F5366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2376-6F4A-44ED-8955-0C83BFDD503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Cl5CeiT7hU&amp;feature=fvwre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ico-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Measurement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main objective here is to review making SI measurements with attention to accuracy and precisio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ief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video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description of accuracy vs. preci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 overheads on estimating measurements with attention to accuracy and preci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certainty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asure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ways have uncertainty (estim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using a measuring device, the important thing is to know what each division represents, and to always ESTIMATE EXACTLY ONE DIGIT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6" descr="j0241993"/>
          <p:cNvPicPr/>
          <p:nvPr/>
        </p:nvPicPr>
        <p:blipFill>
          <a:blip r:embed="rId1"/>
          <a:stretch/>
        </p:blipFill>
        <p:spPr>
          <a:xfrm>
            <a:off x="3733920" y="4343400"/>
            <a:ext cx="181764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ep track of the uncertainty or estimation in a measured quantity or calculated resul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e digits that are known with certainty AND one uncertain (estimated) dig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 uncertain digit is required when recording a measur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ord one digit past the smallest gradu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igital readout already includes an estimated last dig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Numb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467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ct numb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 estimation, no uncertain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nting numbers,   21 stud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blished equivalencies, 12 in= 1 f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ave an infinite no. of sig figs; do not limit the no. of sig figs in a calculated resul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asure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ways carry uncertain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4" descr="j0178302"/>
          <p:cNvPicPr/>
          <p:nvPr/>
        </p:nvPicPr>
        <p:blipFill>
          <a:blip r:embed="rId1"/>
          <a:stretch/>
        </p:blipFill>
        <p:spPr>
          <a:xfrm>
            <a:off x="7238880" y="3808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j0178299"/>
          <p:cNvPicPr/>
          <p:nvPr/>
        </p:nvPicPr>
        <p:blipFill>
          <a:blip r:embed="rId2"/>
          <a:stretch/>
        </p:blipFill>
        <p:spPr>
          <a:xfrm>
            <a:off x="914400" y="5335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j0178297"/>
          <p:cNvPicPr/>
          <p:nvPr/>
        </p:nvPicPr>
        <p:blipFill>
          <a:blip r:embed="rId3"/>
          <a:stretch/>
        </p:blipFill>
        <p:spPr>
          <a:xfrm>
            <a:off x="8001000" y="1143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j0233844"/>
          <p:cNvPicPr/>
          <p:nvPr/>
        </p:nvPicPr>
        <p:blipFill>
          <a:blip r:embed="rId4"/>
          <a:stretch/>
        </p:blipFill>
        <p:spPr>
          <a:xfrm>
            <a:off x="5715000" y="4191120"/>
            <a:ext cx="215892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termining the No. of Sig Figs in a Recorded Measure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Picture 4" descr="mp00130_"/>
          <p:cNvPicPr/>
          <p:nvPr/>
        </p:nvPicPr>
        <p:blipFill>
          <a:blip r:embed="rId1"/>
          <a:stretch/>
        </p:blipFill>
        <p:spPr>
          <a:xfrm>
            <a:off x="2209680" y="1943280"/>
            <a:ext cx="3962520" cy="3225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6400800" y="2743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tlantic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457200" y="35053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acific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Content Placeholder 2" descr=""/>
          <p:cNvPicPr/>
          <p:nvPr/>
        </p:nvPicPr>
        <p:blipFill>
          <a:blip r:embed="rId1"/>
          <a:stretch/>
        </p:blipFill>
        <p:spPr>
          <a:xfrm>
            <a:off x="457200" y="493560"/>
            <a:ext cx="4041720" cy="6559560"/>
          </a:xfrm>
          <a:prstGeom prst="rect">
            <a:avLst/>
          </a:prstGeom>
          <a:ln w="0">
            <a:noFill/>
          </a:ln>
        </p:spPr>
      </p:pic>
      <p:pic>
        <p:nvPicPr>
          <p:cNvPr id="198" name="Content Placeholder 3" descr=""/>
          <p:cNvPicPr/>
          <p:nvPr/>
        </p:nvPicPr>
        <p:blipFill>
          <a:blip r:embed="rId2"/>
          <a:stretch/>
        </p:blipFill>
        <p:spPr>
          <a:xfrm>
            <a:off x="4645080" y="493560"/>
            <a:ext cx="4041720" cy="86011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-230400" y="304920"/>
            <a:ext cx="96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cus on the decimal point to determine the number of sig figs…………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Straight Connector 14"/>
          <p:cNvSpPr/>
          <p:nvPr/>
        </p:nvSpPr>
        <p:spPr>
          <a:xfrm>
            <a:off x="4412520" y="762120"/>
            <a:ext cx="82440" cy="594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mp00130_"/>
          <p:cNvPicPr/>
          <p:nvPr/>
        </p:nvPicPr>
        <p:blipFill>
          <a:blip r:embed="rId1"/>
          <a:stretch/>
        </p:blipFill>
        <p:spPr>
          <a:xfrm>
            <a:off x="2743200" y="380880"/>
            <a:ext cx="3352680" cy="27320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6629400" y="1143000"/>
            <a:ext cx="1676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lant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934320" y="1981080"/>
            <a:ext cx="19047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ff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sent decim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619200" y="1981080"/>
            <a:ext cx="1963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ff00"/>
                </a:solidFill>
                <a:latin typeface="Verdana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im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380880" y="1143000"/>
            <a:ext cx="1600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if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85800" y="3276720"/>
          <a:ext cx="7696080" cy="3398760"/>
        </p:xfrm>
        <a:graphic>
          <a:graphicData uri="http://schemas.openxmlformats.org/drawingml/2006/table">
            <a:tbl>
              <a:tblPr/>
              <a:tblGrid>
                <a:gridCol w="1676520"/>
                <a:gridCol w="3429000"/>
                <a:gridCol w="259056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ci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sent or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asur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. of Sig Fig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4.00  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0060 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0    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0000 se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Text Box 52"/>
          <p:cNvSpPr/>
          <p:nvPr/>
        </p:nvSpPr>
        <p:spPr>
          <a:xfrm>
            <a:off x="5775480" y="201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54"/>
          <p:cNvSpPr/>
          <p:nvPr/>
        </p:nvSpPr>
        <p:spPr>
          <a:xfrm>
            <a:off x="6727680" y="43434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____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55"/>
          <p:cNvSpPr/>
          <p:nvPr/>
        </p:nvSpPr>
        <p:spPr>
          <a:xfrm>
            <a:off x="6880320" y="4495680"/>
            <a:ext cx="81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56"/>
          <p:cNvSpPr/>
          <p:nvPr/>
        </p:nvSpPr>
        <p:spPr>
          <a:xfrm>
            <a:off x="6705720" y="487692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____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57"/>
          <p:cNvSpPr/>
          <p:nvPr/>
        </p:nvSpPr>
        <p:spPr>
          <a:xfrm>
            <a:off x="6705720" y="548640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____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58"/>
          <p:cNvSpPr/>
          <p:nvPr/>
        </p:nvSpPr>
        <p:spPr>
          <a:xfrm>
            <a:off x="6705720" y="609588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____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Number and Unit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 good measurement must always include a number and appropriate units in order to make sens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xamples: How tall are you? What is your mass? How much do you weigh? What is your body temp?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Review of SI Base Uni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600200"/>
          <a:ext cx="8229600" cy="296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se Uni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kilogr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k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Kelv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Electric 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ampe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Amou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o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Luminous Intens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Cande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c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Review of SI Prefix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18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b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Li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easuring Devic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0880" y="1295280"/>
          <a:ext cx="8305920" cy="358164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asuring To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eter stick or metric rul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Balance (variou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Stopwatch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hermometer (variou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Weight (or any forc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Spring scale, force sensor, etc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Volume (regular shaped soli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etric ruler (length x w x 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Volume (irregular solid or a liqui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Graduated cylind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(NOT a beaker!) </a:t>
                      </a: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Wingdings"/>
                          <a:ea typeface="Wingdings"/>
                        </a:rPr>
                        <a:t>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efinition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1295280"/>
          <a:ext cx="8305920" cy="4346640"/>
        </p:xfrm>
        <a:graphic>
          <a:graphicData uri="http://schemas.openxmlformats.org/drawingml/2006/table">
            <a:tbl>
              <a:tblPr/>
              <a:tblGrid>
                <a:gridCol w="1676520"/>
                <a:gridCol w="6629400"/>
              </a:tblGrid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he distance from one point to anoth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50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M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1. An objects resistance to acceleration. 2. The amount of matter in an objec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We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A measure of the gravitational FORCE on an object.  Weight = mass x gra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he interval between two even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50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The degree or intensity of heat energy present in a substance or objec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Dens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A measure of the mass of a substance per unit of volume.  D = m / 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Accuracy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greement with a true value, an established standar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w close a measurement or calculated result comes to the accepted valu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ci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producib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xtent to which consecutive measurements or calculated results agree with one anot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4" descr="j0336977"/>
          <p:cNvPicPr/>
          <p:nvPr/>
        </p:nvPicPr>
        <p:blipFill>
          <a:blip r:embed="rId1"/>
          <a:stretch/>
        </p:blipFill>
        <p:spPr>
          <a:xfrm>
            <a:off x="3962520" y="4724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cise measurements may or may not be accur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ally a single accurate result will lead to precise results if repe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the term precision is used in reference to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easurement, it refers to how finely graduated the instrument i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.4 g    vs.    5.41 g  said to be more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preci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2:14:02Z</dcterms:created>
  <dc:creator>robert wilkin</dc:creator>
  <dc:description/>
  <dc:language>en-US</dc:language>
  <cp:lastModifiedBy>student student</cp:lastModifiedBy>
  <cp:lastPrinted>2008-09-09T19:39:19Z</cp:lastPrinted>
  <dcterms:modified xsi:type="dcterms:W3CDTF">2013-01-30T00:56:08Z</dcterms:modified>
  <cp:revision>30</cp:revision>
  <dc:subject/>
  <dc:title>Measurement</dc:title>
</cp:coreProperties>
</file>